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gif" ContentType="image/gif"/>
  <Override PartName="/ppt/media/image22.png" ContentType="image/png"/>
  <Override PartName="/ppt/media/image26.png" ContentType="image/pn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0.png" ContentType="image/png"/>
  <Override PartName="/ppt/media/image14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31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C01-654C-4D78-B968-30CEB7BA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3AE-7126-4BBD-8B40-FBCBB62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116-9464-463A-BD7D-B8852769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18F-F522-403A-8CA0-60E92B74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02BA-90C9-4508-A566-51981A3F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907-B7D7-4483-A003-6AF57B26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7A56-7414-44DB-88A3-33B4946B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4764-8F5F-4307-982B-9EA7D2C2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FDA8-21B4-48D7-94EE-6AC019B2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219F-AE3F-4B3B-A203-61C5273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3BF0-7988-45CB-B311-58E8A32D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5F6-BFAB-4C6A-81BB-A7C2F25B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3328-733D-4E51-BB34-09790EC5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BDCD-AA5C-431B-B2C3-A7E4EFC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D2B1-BA4A-4A23-832A-19127D2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A769-A101-4F8B-A6F6-80A15BBE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F167-736B-43F3-BEC3-BEB8FCF5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E94-475C-47AE-A13C-41ABCD11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DB7-5189-48F4-AE05-8DA86FD8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1C0-3B18-41C5-8DC4-39095C0C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D4D-222E-4BB3-A6C7-7D901C7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9D6-6E37-4E51-99E6-D88F86A5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5EB-3ED4-4556-B4E7-C5814F9A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583-3776-418E-91B8-AAD0513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0195-EF9A-42C4-8577-87B7248106B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E8C-AE68-4B92-9579-F3620B03D89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468440" y="-176040"/>
            <a:ext cx="7413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0033-033-Kalij-igraet-bolshuju-rol-vo-vnutrikletochnom-obmene-vlijaet-n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3" descr="0034-034-Svojstva-essentsialnykh-mikroelemento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0035-035-Rasprostranennost-defitsitov-essentsialnykh-mikroelementov-v-mire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Содержимое 3" descr="0036-036-Nekotorye-sostojanija-svjazannye-s-defitsitom-ili-izbytko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0037-037-Izmenenie-potrebnosti-v-essentsialnykh-khimicheskikh-elementakh-u-lit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5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x_c0ec31e0.jpg"/>
          <p:cNvPicPr/>
          <p:nvPr/>
        </p:nvPicPr>
        <p:blipFill>
          <a:blip r:embed="rId2"/>
          <a:stretch/>
        </p:blipFill>
        <p:spPr>
          <a:xfrm>
            <a:off x="0" y="219708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378000" y="-152280"/>
            <a:ext cx="855792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Рисунок2"/>
          <p:cNvPicPr/>
          <p:nvPr/>
        </p:nvPicPr>
        <p:blipFill>
          <a:blip r:embed="rId2"/>
          <a:stretch/>
        </p:blipFill>
        <p:spPr>
          <a:xfrm>
            <a:off x="826920" y="4145040"/>
            <a:ext cx="1944720" cy="17143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"/>
          <p:cNvSpPr/>
          <p:nvPr/>
        </p:nvSpPr>
        <p:spPr>
          <a:xfrm>
            <a:off x="2411280" y="1557360"/>
            <a:ext cx="4392720" cy="936720"/>
          </a:xfrm>
          <a:prstGeom prst="flowChartPunchedTape">
            <a:avLst/>
          </a:prstGeom>
          <a:solidFill>
            <a:srgbClr val="00ffff">
              <a:alpha val="2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627280" y="155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1547280" y="2421000"/>
            <a:ext cx="100836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572000" y="2349360"/>
            <a:ext cx="0" cy="165744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156360" y="2349360"/>
            <a:ext cx="865080" cy="1150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9"/>
          <p:cNvSpPr txBox="1"/>
          <p:nvPr/>
        </p:nvSpPr>
        <p:spPr>
          <a:xfrm>
            <a:off x="46836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дка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10"/>
          <p:cNvSpPr txBox="1"/>
          <p:nvPr/>
        </p:nvSpPr>
        <p:spPr>
          <a:xfrm>
            <a:off x="3059280" y="3860640"/>
            <a:ext cx="244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верда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084720" y="3429000"/>
            <a:ext cx="251964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cap="rnd" w="255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6732720" y="4437000"/>
            <a:ext cx="1798560" cy="1295640"/>
          </a:xfrm>
          <a:prstGeom prst="cloudCallout">
            <a:avLst>
              <a:gd name="adj1" fmla="val -81333"/>
              <a:gd name="adj2" fmla="val 96814"/>
            </a:avLst>
          </a:prstGeom>
          <a:solidFill>
            <a:srgbClr val="00ccff"/>
          </a:solidFill>
          <a:ln cap="rnd" w="93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3"/>
          <p:cNvSpPr txBox="1"/>
          <p:nvPr/>
        </p:nvSpPr>
        <p:spPr>
          <a:xfrm>
            <a:off x="6084720" y="3573360"/>
            <a:ext cx="25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азообразна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3"/>
          <a:stretch/>
        </p:blipFill>
        <p:spPr>
          <a:xfrm>
            <a:off x="3564000" y="4581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4,-80,-100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8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3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ранцуз Антуан Лоран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авуазь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первые доказал, что вода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ное вещество, пропус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яные пары через раскале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жейный ствол и разложив вод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два простых вещества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дород и кислор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→2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+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1035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143000" y="500040"/>
            <a:ext cx="692928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прозрач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цвет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запа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вк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истиллирова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име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ьковатый вк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иллирова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 не провод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ический 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в отличии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ой в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ая облад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провод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чет растворе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вещест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E:\Документы слушателей\Avrora - 2009\стакан.jpg"/>
          <p:cNvPicPr/>
          <p:nvPr/>
        </p:nvPicPr>
        <p:blipFill>
          <a:blip r:embed="rId1"/>
          <a:stretch/>
        </p:blipFill>
        <p:spPr>
          <a:xfrm>
            <a:off x="6372360" y="981000"/>
            <a:ext cx="2382840" cy="266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643280" y="4581360"/>
            <a:ext cx="309744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3924360" y="549360"/>
            <a:ext cx="2160360" cy="152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4"/>
          <a:stretch/>
        </p:blipFill>
        <p:spPr>
          <a:xfrm>
            <a:off x="3995640" y="2349360"/>
            <a:ext cx="2305080" cy="17589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948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43210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5867280" y="2349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Содержимое 3" descr="0025-025-Obmen-mineralnykh-veschest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2951280" cy="223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755640" y="4117320"/>
            <a:ext cx="763272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дрокарбонат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нижают кислотность желудочного сока. При этом, в зависимости от метода применения способны как стимулировать, так и тормозить секрецию желудочного сока. Применяются при лечении мочекаменной боле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Хлорид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имулируют обменные процессы в организме, улучшают секрецию желудка, поджелудочной железы, тонкого кишечника. Применяются при расстройствах пищеварительной систе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ульфатные вод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имулируют моторику желудочно-кишечного тракта, особенно благоприятно влияют на восстановление функции печени и желчного пузыря. Применяются при заболеваниях желчных путей, хроническом гепатите, сахарном диабете, ожир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407880" y="195120"/>
            <a:ext cx="8534520" cy="1262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активными металл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2Na+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宋体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→2NaOH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действует с некоторыми неметаллами. Например , при взаимодействии с хлором образуется хлорная вода, обладающая отбеливающими свойств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8"/>
          <p:cNvSpPr/>
          <p:nvPr/>
        </p:nvSpPr>
        <p:spPr>
          <a:xfrm>
            <a:off x="0" y="62064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основными оксидами с образованием щелоч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О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Н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imes New Roman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ahoma"/>
              </a:rPr>
              <a:t>→Са(ОН)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аимодействует с кислотными оксидами (кроме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i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с образованием 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катализатором многих химических проце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宋体"/>
              </a:rPr>
              <a:t>2Al+3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宋体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→2Al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50920" y="47628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Без воды была бы невозможна жизнь: ведь живое вещество образовалось в первобытных морях из растворенных в них веществ. И с тех пор все химические процессы в каждой клеточке тела любого живого организма происходят в водной среде между растворенными веществами. Вот почему так важно сохранять водный баланс нашего организма в любом возрас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30120" y="3573360"/>
            <a:ext cx="2760840" cy="328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003640" y="3532320"/>
            <a:ext cx="4140360" cy="33256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3" descr="0026-026-Osnovnym-stroitelnym-materialom-javljajutsja-chetyre-elementa-azo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0027-027-Srednee-soderzhanie-mineralnykh-elementov-v-organizme-mlekopitajuschik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Содержимое 3" descr="0028-028-Kaltsij-Ca-obschee-soderzhanie-kaltsija-v-organizme-chelove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3" descr="0029-029-Pri-izbytke-kaltsija-nabljudajutsja-khronicheskij-gipertroficheski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0030-030-Pri-nedostatke-kaltsija-nabljudajutsja-takhikardija-aritmija-boli-v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3" descr="0031-031-Magnij-Mg-glavnoe-depo-magnija-nakhoditsja-v-kostjakh-i-myshtsakh-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3" descr="0032-032-Pri-nedostatke-magnija-nabljudaetsja-snizhenie-immunitet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0:29:02Z</dcterms:created>
  <dc:creator>user</dc:creator>
  <dc:description/>
  <dc:language>en-US</dc:language>
  <cp:lastModifiedBy>XP GAME 2010</cp:lastModifiedBy>
  <dcterms:modified xsi:type="dcterms:W3CDTF">2012-11-30T09:23:18Z</dcterms:modified>
  <cp:revision>5</cp:revision>
  <dc:subject/>
  <dc:title>Обмен минеральных веществ</dc:title>
</cp:coreProperties>
</file>